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82BA1BD-0659-48D4-B85B-C39056D9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C7641E8B-80D5-4F50-B826-C703C946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46DB1DD-CA93-4E63-A652-796F8E60D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8F666B21-2669-4298-8477-BD05EBB08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D90DEE7C-2092-480B-9BD0-B4666EE7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19C09219-F581-4048-92D6-3A586634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DAA1F41-1B31-46E8-AC61-B985B413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AD4E013-F900-4646-8166-74F7A0E4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BCE67A5-DF31-423A-9814-3BBFCAF83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4ADC6FA6-8E21-4E6E-BAD4-D9B90C60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6C8651AE-4F0D-4E24-9C2A-7A8F68FB6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4C4773E9-0402-4F68-9756-177BA2F6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7AB6E7A-1936-49BF-A74D-0F6EE70C1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6F4D6E7-7B40-40EB-BB5E-F4F5C8F5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77926796-593D-4CF4-B20B-7E77B47D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EF7A0130-9EB0-4672-ADEA-65E719882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E738B0EB-620D-4864-83F0-8C26AA86B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7E52-CED2-4C4D-93A9-0F9B60258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D0DA-4B0F-40B5-BDB9-26EF02F7F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28E0-C8CD-499F-8807-C23333586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3099-A3C7-40E3-9B79-1B760B1C9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C59-FD9E-490E-8476-F64202FFF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403-7E4D-4043-AA98-FE7985149D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554-71E6-467E-B8E9-FEA758DE41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E7A-2B2A-4646-9BD9-022F0606C0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515-6482-4688-BE8A-D7BF5E4346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E88-5B39-48F5-8753-C10734C42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F70-B6E6-4E61-BBAE-F977206AC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DD86-D5F1-493D-8333-EE46A84B2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441-15E8-4FDA-A2F0-A98D8D1902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85D-A252-491A-82E3-68ECFA166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61C-09CF-4600-B9CE-D247C7A77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59E-A924-4900-9238-3B00459CB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4A6-EE0A-4E5C-B5D7-8DDC5CA08D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469C6-4A71-4456-AACC-F6283E06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C18FD-3806-411D-84F9-58513A9A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A71AE-6125-4906-B0EC-3AC6069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694E9-E056-400B-B1DC-7AA5C434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2F128-CA66-45B0-A1C2-BE16800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F096-97BC-493F-B584-98B8365A5B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2F2F0-DF9B-462E-9531-8FA43466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259A2-4BDA-4043-A6ED-56FA0B87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0321E-AAA4-4503-A5A5-04EAC54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D14A6-EC29-4563-A72D-AE4A060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07495-BE5D-4BFA-9246-3BE4A8E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EBC63-5B0E-486D-94CB-5AE8F27F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06CA0-6977-4CCD-BC52-DF405168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1D655-5F26-4F5F-AE69-84D09872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26BF4-42E6-465C-9564-367EA90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AF6F4-FC8D-4DAD-ADCE-589F210F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E072-E4DA-4473-A387-EAE840C574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C14A5-7CDE-4201-ADD1-63786AB2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39E6F-99D0-4B87-82B4-A6494ED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05F93-D8C8-4B48-B638-D367C47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55734-5357-4538-A1F2-D07D80E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3E3B3-1614-494A-AB78-D56C470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11EF9-8B1F-41BE-A18F-AF68AC0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386E6-B17D-4BC0-BD27-99099618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7984C-54C6-4FE5-81AA-0CA3719C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26AD8C-A499-42BA-8AE5-CF83C2AA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0C06-EE5F-40BC-9821-2BA8AD8E3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3062-48F3-4C52-95BB-C20E43321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02AB-A856-4122-A711-E811A1E59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3265-FDB5-4B35-B970-E2F4A5061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7A43-8884-4B7C-9913-EF1814408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"/>
          <p:cNvSpPr/>
          <p:nvPr/>
        </p:nvSpPr>
        <p:spPr>
          <a:xfrm rot="10800600">
            <a:off x="0" y="6209640"/>
            <a:ext cx="9144000" cy="646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5770" h="407">
                <a:moveTo>
                  <a:pt x="0" y="0"/>
                </a:moveTo>
                <a:lnTo>
                  <a:pt x="5770" y="0"/>
                </a:lnTo>
                <a:lnTo>
                  <a:pt x="5770" y="407"/>
                </a:lnTo>
                <a:lnTo>
                  <a:pt x="5502" y="407"/>
                </a:lnTo>
                <a:lnTo>
                  <a:pt x="5203" y="407"/>
                </a:lnTo>
                <a:lnTo>
                  <a:pt x="4828" y="399"/>
                </a:lnTo>
                <a:lnTo>
                  <a:pt x="4406" y="378"/>
                </a:lnTo>
                <a:lnTo>
                  <a:pt x="3954" y="341"/>
                </a:lnTo>
                <a:lnTo>
                  <a:pt x="3732" y="320"/>
                </a:lnTo>
                <a:lnTo>
                  <a:pt x="3518" y="291"/>
                </a:lnTo>
                <a:lnTo>
                  <a:pt x="3303" y="262"/>
                </a:lnTo>
                <a:lnTo>
                  <a:pt x="3104" y="218"/>
                </a:lnTo>
                <a:lnTo>
                  <a:pt x="2966" y="196"/>
                </a:lnTo>
                <a:lnTo>
                  <a:pt x="2590" y="131"/>
                </a:lnTo>
                <a:lnTo>
                  <a:pt x="2322" y="95"/>
                </a:lnTo>
                <a:lnTo>
                  <a:pt x="2023" y="66"/>
                </a:lnTo>
                <a:lnTo>
                  <a:pt x="1678" y="44"/>
                </a:lnTo>
                <a:lnTo>
                  <a:pt x="1311" y="29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7f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1295280"/>
            <a:ext cx="7315200" cy="0"/>
          </a:xfrm>
          <a:prstGeom prst="line">
            <a:avLst/>
          </a:prstGeom>
          <a:ln w="1908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B333-13C8-4D51-9743-C8234789E7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sim_2color_sig"/>
          <p:cNvPicPr/>
          <p:nvPr/>
        </p:nvPicPr>
        <p:blipFill>
          <a:blip r:embed="rId2"/>
          <a:stretch/>
        </p:blipFill>
        <p:spPr>
          <a:xfrm>
            <a:off x="7453440" y="5784840"/>
            <a:ext cx="1690560" cy="96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Num" idx="3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97E-8626-4040-901B-478E55E9010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sim_2color_sig"/>
          <p:cNvPicPr/>
          <p:nvPr/>
        </p:nvPicPr>
        <p:blipFill>
          <a:blip r:embed="rId2"/>
          <a:stretch/>
        </p:blipFill>
        <p:spPr>
          <a:xfrm>
            <a:off x="7975440" y="6188040"/>
            <a:ext cx="1168560" cy="66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077-A382-4EC4-9874-A40FFA17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24F-8BF1-4E15-8689-2E33B403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6480" y="2282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1314"/>
                </a:solidFill>
                <a:latin typeface="Arial"/>
              </a:rPr>
              <a:t>WARNING:</a:t>
            </a:r>
            <a:endParaRPr b="0" lang="en-US" sz="44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49280" y="1371240"/>
            <a:ext cx="6438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aking, carrying, or using overhead transparencies for every item in this training packet poses a significant physical and mental health hazard to you and your audience -- use sparingly and very judicious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798720" y="4952880"/>
            <a:ext cx="1543320" cy="154332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223-8FCD-441C-B9AB-532ABAC512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uccess Formula for Tes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-Taking Strategy + Study Strategies = Good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7550-BC54-4C0A-A6B9-73073D63B9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ilosophical Underpinning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f the Strategic Instruction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tudents can learn to function independently in mainstream set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le of the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support-cla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acher is to teach low-achieving students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will enable them to be independent learners and perform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17F1-5C9C-458C-A6D2-3F978D08CD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ilosophical Underpinning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f the Strategic Instruction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le of the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acher is to deliver subject-matter information in a manner that can be understood and remembered by low-achieving stud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should have a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major vo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deci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bout what strategies they are to learn and how fast they are to learn these strate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3D2-EAC3-4587-9725-2B90F144FB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Resul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441600" y="3048120"/>
            <a:ext cx="389916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397480" y="3048120"/>
            <a:ext cx="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600360" y="212256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543640" y="212256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116800" y="320184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648240" y="32259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565960" y="32259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1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673-FB89-4998-B70F-DE305E1794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for 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required to take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within 10 points of the passing range (achieving scores above 5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have learned the memory/study strategies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-Letter Mnemonic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have learn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 Writing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776B-5DA7-472F-9121-C1DFC4D36F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B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onal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 K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F77-0BDA-4D7E-979A-65279277B8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A84-9F02-4A8E-8DA1-CD313AC96F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V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CBD3-59D3-468F-916D-EFD6823B18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udent Folder Cont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Cov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38C-E9CB-4585-B62D-236F7C8D860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922320" y="212760"/>
            <a:ext cx="7302600" cy="6148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355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9000" y="104580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28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earning Strategy Se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University of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for Research on Lear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wrence,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2729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17F-0306-45D2-8E5C-A75BE4783E89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498600" y="530280"/>
            <a:ext cx="8151840" cy="566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B7F-7894-4B15-8D90-AD0DA403EDA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35360" y="380880"/>
            <a:ext cx="39160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1.   Put a circle around the letter next to the best cho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Working conditions during the early paleonic period we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always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usually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never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never dangerou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A score in football is cal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a homeru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a dun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a bing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a touchdow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The average length of the four-toed cremuth 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one foo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three fe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twelve inch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eighteen inch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 The Argualan colonists fought the King because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land righ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water righ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cruel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unfair taxation of ex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ducts from their homelan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  The battle of Ares took place because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relig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fam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gre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a and 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 Which of the following is a tree that does not stay green all year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f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oa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junip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p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 Couches and chairs are bo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used only inside the hom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very fa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easy to rea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furniture for sitting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I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ch the term on the left with the word(s) on the r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means the same thing.  Write the letter in the bl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side the number of the appropriate ter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1. app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small grow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2. setho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used to purchase good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3. tra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red or green fru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4. mone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form of transport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4173480" y="380880"/>
            <a:ext cx="4847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II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a short essay below on the following topic:  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e Favorite Food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V.   Write “True” or “False” in the blank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1.  Low levels of monoplast in the blood always indicates endematic infec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2.  January is a month in the spring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3.  Many of the countries in the lower peninsula region depend on irr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crop watering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4.  If sendium is added to phosphorus, it never fails to ignit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5.  Most cancerous cells contain a form of skotema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6.  The first day of the work week is Monday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7.  The greedy Ares always stockpiled their gold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V.   Write a word in the blank that makes the sentence corre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The last centrium used in a laser was the ___________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Apples, oranges, and pears are all _________________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Reading, writing, and arithmetic are subjects taught in 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 A variety of _________________________ are used in extol extrac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CD2-CE1C-4A73-9414-A026C0A576E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395440" y="262080"/>
            <a:ext cx="4356360" cy="6099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B86-4FF0-4CCB-B355-EE66DABC81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Steps of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re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pect the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d, remember, 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wer or aba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1322280" y="2643120"/>
            <a:ext cx="326880" cy="1330200"/>
            <a:chOff x="1322280" y="2643120"/>
            <a:chExt cx="326880" cy="1330200"/>
          </a:xfrm>
        </p:grpSpPr>
        <p:sp>
          <p:nvSpPr>
            <p:cNvPr id="330" name="Line 4"/>
            <p:cNvSpPr/>
            <p:nvPr/>
          </p:nvSpPr>
          <p:spPr>
            <a:xfrm>
              <a:off x="1326960" y="264312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>
              <a:off x="1331640" y="2643120"/>
              <a:ext cx="0" cy="13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1322280" y="397332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415880" y="325260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>
              <a:off x="1420560" y="325260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"/>
            <p:cNvSpPr/>
            <p:nvPr/>
          </p:nvSpPr>
          <p:spPr>
            <a:xfrm>
              <a:off x="1415880" y="388296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6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9881-2962-4182-9C94-4245385D7D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1: Prepare to Succee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your name and PIRATES on the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t time and order to se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affirm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in 2 min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C180-719E-476D-8469-BD493E7873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2: Inspect the Instruc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instructions carefu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line what to do and where to resp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speci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E91-3C97-4D4F-934B-23EC7A5158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Underline What to do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nd Where to Respon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le the letter next to the most appropriate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42280" indent="0">
              <a:spcBef>
                <a:spcPts val="499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“T” in front of statements that are true. Write “F” in front of statements that are fa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42280" indent="0">
              <a:spcBef>
                <a:spcPts val="499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a “+” in front of statements that are true. Make a “-” in front of statements that are fa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5409-F02C-4A43-9D19-50C8F39CBF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3: Read, Remember, Redu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the whole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mber what you stud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he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A86C-D658-453E-8A69-B8B89615A6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4: Answer or Aband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the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andon the question for the mo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747-05A2-49C7-9E4B-0119937C36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bsolute Word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B77-7EE9-4AE7-8A51-1F0235AC99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413400" y="2711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361200" y="3255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88200" y="379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3752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361200" y="47671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42000" y="4965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340320" y="538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781440" y="23353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Visual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72D-19D2-48FE-8BFB-24BB229260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Non-Absolute Word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DA6C-D13C-4176-AF58-A1F9FEC30F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6: Estimat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bsol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the longest or most detailed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similar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6F03-17C2-435D-9086-AB9FF2307D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7: Surve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to ensure all questions are answ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itch an answer only if you’re s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0526-E2E8-494E-AABB-E8103E732B4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24040" y="108000"/>
            <a:ext cx="749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’s Name: 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em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xplaining Strategy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 Own Word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Strategy Ste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to succe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pect the instruc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d, remember, redu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 or Aband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rn bac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ve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Subste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 name and PIRA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the te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ot time and or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y affirm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within 2 minu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derline “what” &amp; “where”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special requiremen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“ACE” Guessing Techniq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oid absolu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oose the longest choi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minate similar choic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centage Correc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051720" y="3808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al Practice Check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3F0-981D-460F-8F60-9AC9D77897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nemonic Devic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(P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(I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(E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PASS and RUN, you’ll score more points and ACE the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6E9-179F-4B57-9BB5-F64D6BBF0DC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7" descr=""/>
          <p:cNvPicPr/>
          <p:nvPr/>
        </p:nvPicPr>
        <p:blipFill>
          <a:blip r:embed="rId1"/>
          <a:stretch/>
        </p:blipFill>
        <p:spPr>
          <a:xfrm>
            <a:off x="2278080" y="264960"/>
            <a:ext cx="4592520" cy="6040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5C02-8C70-49A2-9DE6-B21976ADCC3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886200" y="457200"/>
            <a:ext cx="584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19240" y="184320"/>
            <a:ext cx="4368600" cy="561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"/>
          <a:stretch/>
        </p:blipFill>
        <p:spPr>
          <a:xfrm>
            <a:off x="4603680" y="184320"/>
            <a:ext cx="4417920" cy="5619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889-F9B7-4D9F-81AE-3AD14247BBE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2200320" y="219240"/>
            <a:ext cx="4746600" cy="6072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697-439B-4AFB-BC0A-8637E3B632B7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120600" y="309600"/>
            <a:ext cx="4478400" cy="561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4697280" y="309600"/>
            <a:ext cx="4226040" cy="545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386B-10AF-4A93-9953-086D96D05E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Affirm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look for ways to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ry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believe that when I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 will be success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believe that use o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will help me achieve my go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look forward to taking tests and us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5334120" y="4470480"/>
            <a:ext cx="35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4DB7-2BBA-4563-91ED-B284F4798D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07240" y="295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553080" y="345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96160" y="3629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642000" y="406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66040" y="45925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962760" y="4782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489720" y="5259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Letter Mnem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and Note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13D6-7F17-41C3-AFB0-C2A4C33FDF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Affirm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enjoy using “PIRATES” and showing what I know on te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work through tests easily using “PIRAT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 use the “REMEMBER” step of “PIRATES,” answers come to me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a successful test-taker when I use “PIRAT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4DA3-56AC-4CDE-8E7C-A4486313BE5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4451400" cy="5419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4664160" y="549360"/>
            <a:ext cx="4375080" cy="5394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C569-F765-4811-92C3-B6A37D515B1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8508960" y="609480"/>
            <a:ext cx="38088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217440" y="179280"/>
            <a:ext cx="4407120" cy="5845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"/>
          <p:cNvPicPr/>
          <p:nvPr/>
        </p:nvPicPr>
        <p:blipFill>
          <a:blip r:embed="rId2"/>
          <a:stretch/>
        </p:blipFill>
        <p:spPr>
          <a:xfrm>
            <a:off x="4646520" y="179280"/>
            <a:ext cx="4432320" cy="5807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AE9C-C5ED-4993-ABFC-AE57A667AF3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9" descr=""/>
          <p:cNvPicPr/>
          <p:nvPr/>
        </p:nvPicPr>
        <p:blipFill>
          <a:blip r:embed="rId1"/>
          <a:stretch/>
        </p:blipFill>
        <p:spPr>
          <a:xfrm>
            <a:off x="136440" y="187200"/>
            <a:ext cx="4386240" cy="5722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"/>
          <p:cNvPicPr/>
          <p:nvPr/>
        </p:nvPicPr>
        <p:blipFill>
          <a:blip r:embed="rId2"/>
          <a:stretch/>
        </p:blipFill>
        <p:spPr>
          <a:xfrm>
            <a:off x="4556160" y="187200"/>
            <a:ext cx="4487760" cy="5913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549F-8211-410D-807C-4DE8F53E2648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123840" y="157320"/>
            <a:ext cx="4402080" cy="577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"/>
          <p:cNvPicPr/>
          <p:nvPr/>
        </p:nvPicPr>
        <p:blipFill>
          <a:blip r:embed="rId2"/>
          <a:stretch/>
        </p:blipFill>
        <p:spPr>
          <a:xfrm>
            <a:off x="4719600" y="157320"/>
            <a:ext cx="4314960" cy="5825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FC7-F3B9-484E-8ACD-A98F19F3C95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2300400" y="181080"/>
            <a:ext cx="4548240" cy="6148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5EC-5ABB-494E-AA73-8ABB8A7CB1D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166680" y="450720"/>
            <a:ext cx="4433760" cy="5715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2"/>
          <a:stretch/>
        </p:blipFill>
        <p:spPr>
          <a:xfrm>
            <a:off x="4657680" y="450720"/>
            <a:ext cx="4284720" cy="5813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DB0F-55DF-4D60-8EC0-343DFACE30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870600" y="249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58000" y="269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0" y="2887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908760" y="337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907320" y="393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946920" y="4470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870600" y="5010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908760" y="5452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277040" y="56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6896160" y="6087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7360" y="1306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and Demonstration of Compe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436760" y="5000760"/>
            <a:ext cx="2133360" cy="50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873A-772D-4BF0-8F3F-88E39E35BA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inent Setting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majority of a student’s mainstream course grade is based on test s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 of this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student active in attacking a test and earning as many points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talk to themselves and to promote positive attitudes while taking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mote a feeling of confidence with regard to taking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4EA-42FB-4245-9840-5864D5081F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Steps of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to succ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pect the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, remember, red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or aban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0"/>
          <p:cNvGrpSpPr/>
          <p:nvPr/>
        </p:nvGrpSpPr>
        <p:grpSpPr>
          <a:xfrm>
            <a:off x="1314360" y="2305080"/>
            <a:ext cx="326880" cy="1330200"/>
            <a:chOff x="1314360" y="2305080"/>
            <a:chExt cx="326880" cy="1330200"/>
          </a:xfrm>
        </p:grpSpPr>
        <p:sp>
          <p:nvSpPr>
            <p:cNvPr id="240" name="Line 4"/>
            <p:cNvSpPr/>
            <p:nvPr/>
          </p:nvSpPr>
          <p:spPr>
            <a:xfrm>
              <a:off x="1319040" y="230508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>
              <a:off x="1323720" y="2305080"/>
              <a:ext cx="0" cy="13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1314360" y="363528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407960" y="291456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412640" y="291456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1407960" y="354492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6A3-1844-467C-B655-D43AF4389D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ationales Behin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have a routine to follow as they take tests. Use of this strategy provides a routine to use during a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have negative thoughts as they take tests. This strategy requires positive self-talk during a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BE2E-FD7E-4A61-8EE9-30E5E663AB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ationales Behin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answer several questions on a test. This strategy provides them ways to behave when they are not sure of an answ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know how to approach short essay questions. This strategy provides them with a set of behaviors to use when answering an essay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21:19:55Z</dcterms:created>
  <dc:creator>Brian Staats</dc:creator>
  <dc:description/>
  <dc:language>en-US</dc:language>
  <cp:lastModifiedBy>IU5</cp:lastModifiedBy>
  <dcterms:modified xsi:type="dcterms:W3CDTF">2011-10-19T12:34:04Z</dcterms:modified>
  <cp:revision>57</cp:revision>
  <dc:subject/>
  <dc:title>WARNING:</dc:title>
</cp:coreProperties>
</file>